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10D-9B66-49E1-A3BE-D937C414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F04-935F-4122-8E43-35D1A4A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841-3035-4A93-905F-32F5B514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1C0-A647-4109-AAF5-AE93551F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B46A-0752-44D0-8517-CDA1F834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1125-6EAA-43D0-86B2-466B47C9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E568-5E44-4ED9-83FF-83500684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AC0C-35C6-45CD-9582-0C0C2A32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4B99-C4F7-4149-8860-C5BDC183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09C-D8F6-41B2-AA1A-7634259A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B837-5D9A-45E4-A012-CF60F1F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BFB-C385-4234-A4FF-CAD0558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9181-AC63-450D-8317-407F429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D720-23B5-44E2-81F7-90368EC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0B3F-F132-4983-9D8C-BCF4EC7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4170-889E-463C-8461-2D757D31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FAA-66CE-4687-9996-4887904C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C38-B6FB-46D0-B066-C6CE72A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8F2-8173-4AB1-AA55-40FA7164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DBF-E0FA-421A-AB66-24FFFD9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D42-93A9-4383-ADCA-84251CB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8F0-A255-486C-A74C-857411E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45A-56AE-4364-B00A-0763B70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7B2-4BB2-41B5-9D5B-7849D54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611280" cy="6859440"/>
            <a:chOff x="0" y="-1440"/>
            <a:chExt cx="611280" cy="6859440"/>
          </a:xfrm>
        </p:grpSpPr>
        <p:sp>
          <p:nvSpPr>
            <p:cNvPr id="1" name=""/>
            <p:cNvSpPr/>
            <p:nvPr/>
          </p:nvSpPr>
          <p:spPr>
            <a:xfrm>
              <a:off x="41040" y="-1440"/>
              <a:ext cx="5684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040" y="4907160"/>
              <a:ext cx="5623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200" y="4856400"/>
              <a:ext cx="57600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160" y="2816280"/>
              <a:ext cx="5821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040" y="3537000"/>
              <a:ext cx="46260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78560" y="425520"/>
              <a:ext cx="4320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1440" y="260640"/>
              <a:ext cx="42984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720" y="-1440"/>
              <a:ext cx="2721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0" y="0"/>
              <a:ext cx="1418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4176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200" y="6228000"/>
              <a:ext cx="550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F81-B061-4C84-A5D2-79741664632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302680" y="-1440"/>
            <a:ext cx="841320" cy="6859440"/>
            <a:chOff x="8302680" y="-1440"/>
            <a:chExt cx="841320" cy="6859440"/>
          </a:xfrm>
        </p:grpSpPr>
        <p:sp>
          <p:nvSpPr>
            <p:cNvPr id="55" name=""/>
            <p:cNvSpPr/>
            <p:nvPr/>
          </p:nvSpPr>
          <p:spPr>
            <a:xfrm>
              <a:off x="8359560" y="-1440"/>
              <a:ext cx="7826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59560" y="4906800"/>
              <a:ext cx="7747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200" y="4856040"/>
              <a:ext cx="792000" cy="20005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3720" y="2816280"/>
              <a:ext cx="80028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96280" y="3537000"/>
              <a:ext cx="63648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48560" y="425520"/>
              <a:ext cx="59364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53240" y="260280"/>
              <a:ext cx="590760" cy="30718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3440" y="-1440"/>
              <a:ext cx="37440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53440" y="0"/>
              <a:ext cx="19512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02680" y="0"/>
              <a:ext cx="5868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62800" y="6227640"/>
              <a:ext cx="757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F76-7131-4318-A606-7D5942E7431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ИСТЕМА МОНИТОРИНГА И ОЦЕНК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ИЗАЦИИ КОМПОНЕНТОВ ГОСУДАРСТВЕННОЙ ПРОГРАММЫ РЕ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РАЗВИТИЯ ЗДРАВООХРАНЕНИЯ  РЕСПУБЛИКИ КАЗАХСТАН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 2005-2010 Г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5320" y="5516640"/>
            <a:ext cx="47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енеральный директор НЦПФЗОЖ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.м.н., профессор Тулебаев К.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269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блемы во время сбора данных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21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индикаторам были получены не корректные данные (например, указано определенное количество организаций ПМСП, а информация по необходимому их количеству меньше почти в 2 раза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показателям были представлены не полные данные, что затрудняло анализ ситуаци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Финансовые показатели представлялись в разных единицах измерения (млн. тенге, тыс. тенге, абсолютные числа), что затрудняло  анализ этих данных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Некоторые показатели вообще не были получены в силу отсутствия контроля со стороны департаментов здравоохранения (в основном это касается показателей ответственности государства и работодателей за здоровье населения)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477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2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7 показателям сбор будет осуществляться с 2007 – 2008 год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20 показателям сбор будет осуществляться с 2006 год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8 индикаторам информация не была получ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35 индикаторам была получена информация полностью или частичн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одился сравнительный анализ показателей 2005 года по сравнению с данными 2004 г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333360"/>
            <a:ext cx="747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197000"/>
            <a:ext cx="838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ая обеспеченность медицинских организаций протокола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уровень подготовленности медицинских работников по использованию протокол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контроль за оказанием медицинских услуг в соответствии с протоколами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утствие утвержденных стандартов оснащенности медицинским оборудованием и изделиями медицинского назнач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беспеченность организаций ПМСП методическими материалами по скринингу и профилактическим осмотрам, методическими и информационными материала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своение не только средств местного бюджета, но и целевых трансвертов (84,7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ое обеспечение медицинских организаций минимальным стандартом оснащенности медицинским оборудованием и автотранспорт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руктура расходов в системе здравоохранения (стационар-75,6%, ПМСП-24,4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дена апробация рейтинговой оценки регионов по реализации Госпрограммы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етодическое руковод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сновные принципы и приоритеты системы мониторинга и оценки в реализации Государственной программы реформирования и развития здравоохранения РК на 2005 – 2010 год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рганизационные мероприятия по разработке и внедрению системы мониторинга и оценки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Инструкция по сбору информации системы мониторинга и оценки реализации Госпрограмм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Временные отчетные формы по сбору информации по системе мониторинга и оценки реализации Госпрограммы и порядок их заполн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насел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руководителей медицинских организаций о ходе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каз Министерства здравоохранения от 22.09.2006г. №425 «О проведении республиканского семинара «Подходы и принципы к системе мониторинга и оценки программ здравоохранения в Казахстан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9 участников; из них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4 представителей регион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 представителей международны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 представителей МЗ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представитель Аппарата Президента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представителей Республикански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 представителя ТОО «Мединфор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3868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32 индикаторов конечного результата страновой системы мониторинга и оценки Госпрограммы 17 индикаторов конечного результата учтены в региональных программ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го примерно 110 индикато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каз Президента РК от 13 сентября 2004 года №1438 «О Государственной программе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К от 13.10.2004г. №1050 « Об утверждении Плана мероприятий по реализации Государственной программы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нцепция системы мониторинга и оценки реализации Госпрограм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граммно – целево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ункциональны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920" y="2133720"/>
            <a:ext cx="9108720" cy="3382200"/>
            <a:chOff x="34920" y="2133720"/>
            <a:chExt cx="9108720" cy="3382200"/>
          </a:xfrm>
        </p:grpSpPr>
        <p:sp>
          <p:nvSpPr>
            <p:cNvPr id="115" name=""/>
            <p:cNvSpPr/>
            <p:nvPr/>
          </p:nvSpPr>
          <p:spPr>
            <a:xfrm rot="10800000">
              <a:off x="34920" y="2140560"/>
              <a:ext cx="9108720" cy="3375000"/>
            </a:xfrm>
            <a:prstGeom prst="rtTriangle">
              <a:avLst/>
            </a:prstGeom>
            <a:solidFill>
              <a:srgbClr val="cce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3760" y="343368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Вклад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0880" y="292356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цесс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4960" y="2434320"/>
              <a:ext cx="22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межуточный результат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0360" y="2206080"/>
              <a:ext cx="151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Ожидаемый результат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240" y="213372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7720" y="2141280"/>
              <a:ext cx="0" cy="717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2680" y="2141280"/>
              <a:ext cx="0" cy="14677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60400" y="2139480"/>
              <a:ext cx="0" cy="229968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692480" y="2141280"/>
              <a:ext cx="8280" cy="2841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8120" y="242820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3960" y="3362760"/>
              <a:ext cx="454680" cy="430560"/>
            </a:xfrm>
            <a:prstGeom prst="leftArrow">
              <a:avLst>
                <a:gd name="adj1" fmla="val 50000"/>
                <a:gd name="adj2" fmla="val 26401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5840" y="2858760"/>
              <a:ext cx="454680" cy="430920"/>
            </a:xfrm>
            <a:prstGeom prst="leftArrow">
              <a:avLst>
                <a:gd name="adj1" fmla="val 50000"/>
                <a:gd name="adj2" fmla="val 26378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14128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5320" y="5876640"/>
            <a:ext cx="4073040" cy="556920"/>
            <a:chOff x="5035320" y="5876640"/>
            <a:chExt cx="4073040" cy="556920"/>
          </a:xfrm>
        </p:grpSpPr>
        <p:sp>
          <p:nvSpPr>
            <p:cNvPr id="130" name=""/>
            <p:cNvSpPr/>
            <p:nvPr/>
          </p:nvSpPr>
          <p:spPr>
            <a:xfrm rot="10800000">
              <a:off x="8148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0353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813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6591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370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45880" y="5876640"/>
            <a:ext cx="4073040" cy="556920"/>
            <a:chOff x="1145880" y="5876640"/>
            <a:chExt cx="4073040" cy="556920"/>
          </a:xfrm>
        </p:grpSpPr>
        <p:sp>
          <p:nvSpPr>
            <p:cNvPr id="136" name=""/>
            <p:cNvSpPr/>
            <p:nvPr/>
          </p:nvSpPr>
          <p:spPr>
            <a:xfrm rot="10800000">
              <a:off x="4259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11458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1923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2702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3480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121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цели» или достижения по основным направлениям Государственной программы (Госпрограмм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эффекта» или достижения ожидаемых (конечных) результатов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результативности» или промежуточные результаты, которые позволяют отслеживать следствие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процесса» или действия, которые позволяют отслеживать ход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вклада» или объем выделенных ресурсов на реализацию Госпрограммы и степень их освоения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700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 категорий индикаторов мониторинга и оце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– «Цел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здоровья насел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епень солидарной ответственности государства и человека за его здоровь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охраны здоровья матери и ребен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организации медицинской помощи населению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управления здравоохранен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3336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 эффек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24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индикатора конечного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4653000"/>
            <a:ext cx="6767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его - 180 показа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21300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результативности, процесса, вкла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хема потоков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стемы мониторинга и оце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0920" y="3070080"/>
            <a:ext cx="2232000" cy="1582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ч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рган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 СМ и 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49840" y="1989000"/>
            <a:ext cx="259236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АИС «Здравоохранение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4797360"/>
            <a:ext cx="259236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ополнительная информ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4870440"/>
            <a:ext cx="2592360" cy="642600"/>
          </a:xfrm>
          <a:prstGeom prst="rect">
            <a:avLst/>
          </a:prstGeom>
          <a:solidFill>
            <a:srgbClr val="66ff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Мединфо»            База да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844640"/>
            <a:ext cx="259236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ругие министерства и ведом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1480" y="2781360"/>
            <a:ext cx="792360" cy="647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59280" y="4221000"/>
            <a:ext cx="623880" cy="6494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06560" y="2637000"/>
            <a:ext cx="1008360" cy="82548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2920" y="3933720"/>
            <a:ext cx="1224000" cy="863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2781360"/>
            <a:ext cx="936720" cy="863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70200" y="4149720"/>
            <a:ext cx="72072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9840" y="4149720"/>
            <a:ext cx="93672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49840" y="2637000"/>
            <a:ext cx="1152720" cy="10112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5734080"/>
            <a:ext cx="216036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Социологические исследован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6560" y="5734080"/>
            <a:ext cx="216072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Временные отчетные форм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18200" y="5445000"/>
            <a:ext cx="144144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5445000"/>
            <a:ext cx="1150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56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чники информации для формирования индикатор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330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 индикаторов собираются из других министерств и ведомст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4 индикатора входят в официальную статистическую отчет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0 индикаторов собираются КГСЭН и РСЭС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4 индикаторов находятся  под патронажем Комитета контроля качества оказания медицинских услуг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 индикаторов относятся к подготовке и переподготовке врачебных и средних медицинских кадров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 индикатора предоставляются Республиканским Центром борьбы со СПИ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 индикатора представляется Национальным Центром проблем туберкулез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 индикаторов получены в результате социологических исследований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6 индикаторов касаются фармацевтической деятельности и предоставляются Комитетом фармац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1 индикаторов собирается из департаментов здравоохранения регионов по временным отчетным формам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4:57:54Z</dcterms:created>
  <dc:creator>user</dc:creator>
  <dc:description/>
  <dc:language>en-US</dc:language>
  <cp:lastModifiedBy>sauko</cp:lastModifiedBy>
  <dcterms:modified xsi:type="dcterms:W3CDTF">2006-11-09T14:00:07Z</dcterms:modified>
  <cp:revision>9</cp:revision>
  <dc:subject/>
  <dc:title>СИСТЕМА МОНИТОРИНГА И ОЦЕНКИ  РЕАЛИЗАЦИИ КОМПОНЕНТОВ ГОСУДАРСТВЕННОЙ ПРОГРАММЫ РЕФОРМИРОВАНИЯ  И РАЗВИТИЯ ЗДРАВООХРАНЕНИЯ  РЕСПУБЛИКИ КАЗАХСТАН  НА 2005-2010 ГОДЫ</dc:title>
</cp:coreProperties>
</file>