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D79D-45AF-4567-938F-F23CEFF60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6537-AA21-4D93-88FB-C07E0B46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2C8D-7C42-4C9D-8CF9-5893973F9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F662-08B8-4FEE-A3B5-690CC2A0A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71C1-0D0A-4E5E-AF45-0F6CF610A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4B83-19F8-4290-B6AB-4F8B9645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1782-5717-4266-B4C9-6846B812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F677-E6B7-40D3-9C34-E601BD50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B89B-AE67-4F87-913B-4F853AB9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4C89-666B-485D-8568-D803FC36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A77E-1EFD-41AC-8281-4268D4D6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51B3-ABF0-42F3-A01C-C37D8D6A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5F0C-6BBC-4C28-9070-614E4CB7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9D12-9546-46B1-BC96-E03E6229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8394-9923-46A2-85E9-A07B1650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12C9-0CDE-4317-8746-53CA2FAD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DF52-96D8-4FFB-80CD-8CD1940E0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2BAF-1B72-4461-98F6-AA903166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E797-201F-4FD7-A20E-89F077A2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68D4-428E-41C2-B8B1-F84CA670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913C-1FA3-45FB-9ED9-B1CFEF8B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0E59-DC17-4BF2-87F9-14F3DC27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EB41-5895-44D9-92DE-153DAFBD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C145-C797-4C0F-AF07-4218153C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D312-EBED-4E3A-8AC4-1E79725E25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4A56-0592-499E-98EA-E508EFAF8F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Правовые и организационные вопросы Национальных счетов здравоохран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.Т. Танирберген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едицинский информационно-аналитический центр, г. Актоб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657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12440" y="1371600"/>
            <a:ext cx="7802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Правовые и организацион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вопросы внедр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Национальных счетов здравоо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1600" y="4317840"/>
            <a:ext cx="763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.Т. Танирберге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едицинский информационно-аналитический цент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г. Акто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5311-C640-4B9A-A245-E7AB73D19DB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Закон РК «О государственной статистике»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07.05.1997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/2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Все физические и юридические лица, обязаны безвозмездно предоставлять первичную статистическую информацию при проведении государственных статистических наблюдений, предусмотренных планом статистических работ (статья 3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Ведомственные статистические наблюдения, в т.ч. форма №19, входит в число государственных статистических наблюдений (статья 2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План статистических работ утверждается Правительством (статья 3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3FBD-73CA-4725-AAE1-DB424BCAA5E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Закон РК «О государственной статистике»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07.05.1997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2/2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5909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коном гарантировано сохранение конфиденциальности статистической информации, в т.ч. содержащие сведения, отнесенные к коммерческой или иной охраняемой тайн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пространение статистической информации, содержащей коммерческую тайну преследуется законодательными актам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КоАП РК ст. 383 - продажа, передача или иное разглашение статистических данных, содержащих коммерческую тайну, должностным лицом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8B96-3874-42DB-B21D-DF4A09F1D12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СЗ. Правовой механизм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т. 8 Закона установлено, что уполномоченный орган издает НПА по вопросам государственной статистики, исполнение которых обязательно для всех физических и юридических ли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ланом статистических наблюдений на 2006 год, в числе ведомственных наблюдений проводимых МЗ РК предусмотрена форма №19 «Отчет о расходах здравоохранения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становления Правительства не подлежат государственной регистрации в органах юстиции, имеют прямое применение на всей территории страны и подлежат исполнению всеми лицам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1387-AE2B-49EE-A837-4670DF4017D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СЗ. Организационные вопросы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/2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2666520"/>
            <a:ext cx="77724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Обучение респондентов надлежащему заполнению отчетной формы и базы данных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Обучение персонала качественному сбору и своду информации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Техническое, программное обеспечение процесса сбора информации и устранение возникающих «проблем»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Обеспечение качественного анализа полученной информации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8340-309F-4FB9-9033-1E7DD14F2E5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СЗ. Организационные вопросы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2/2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рганизации – получатели бюджетных средств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анные бухгалтерского уче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поставление функциональной классификации расходов бюджета с функциями (видами медицинских услуг в НСЗ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государственные организаци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зделение «приходной» части финансов соответственно функциям НСЗ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ыделение из «приходной части» дохода (прибыли) для фиксации расхода организации на поставку медицинских услуг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3AFF-DFFB-46E7-8F18-9B573A9183B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СЗ. Получатели бюджетных средств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/2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грамма 004 «Оказание стационарной медицинской помощи по направлению…ПМСП…» - соответствует «НС. 1.1.2 Услуги лечения. Стационарная медицинская помощь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грамма 011 «Оказание скорой и неотложной помощи» - соответствует «НС. 4.3 Вспомогательные услуги. Оказание экстренной и неотложной медицинской помощи и транспортировка пациентов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CCBF-65A0-471B-81D4-0FFFBB4672C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СЗ. Получатели бюджетных средств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2/2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блемное сопоставле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еабилитационное лечение в дневном стационар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ланирование семьи и семейные консультаци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филактика инфекционных заболева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еабилитационный уход на дому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едоставление медицинских товаров амбулаторным больным, и друг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ущность проблемы – проведение финансового ауди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FC72-D599-438E-A36B-4A9C5989091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егосударственные организаци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433600"/>
            <a:ext cx="8269200" cy="33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чет всей «приходной» части финансов, полученных от поставки медицинских услуг – включается прибыль, некоторые и платеж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чет непосредственно «расходов» поставщика на оказание медицинских услу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4105-3736-41CE-92D2-A780DE0DE56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СЗ и фармацевтическая деятельность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363400"/>
            <a:ext cx="8269200" cy="27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лассификация поставщиков услуг сопоставима с классификацией согласно Закона РК «О лекарственных средствах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ольшинство субъектов фармацевтической деятельности реализуют ИМН и МТ через аптечные организ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обходимость аудиторского подхода при формирования отче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D372-7C27-4794-9DB7-A7FA0F8E6B2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ациональные счета здравоохранения. Анализ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/3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433600"/>
            <a:ext cx="826920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едназначены для структурирования групп расходов, соответствующих профилю деятельности организации здравоохран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ля государственных организаций НСЗ не пригодно  в целях финансового контроля в силу не полного их отраж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СЗ позволяет группировать финансовые ресурсы для определения структуры рынка медицинских услу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4869-ABB6-4B56-A90C-C723418F1BF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990360"/>
            <a:ext cx="779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ациональные счета здравоохранения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/2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осударственной Программой реформирования и развития здравоохранения Республики Казахстан на 2005-2010 годы, в рамках совершенствования системы финансирования отрасли предусмотрено внедрение в 2006-2007 годах Национальных счетов здравоохранения (НСЗ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СЗ позволяет определить в денежном выражении вклад всех государственных, общественных и иных институтов (государственный бюджет, средства населения, страховые взносы, иностранные организации, средства работодателей и т.д.) в систему здравоохран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5543-35BF-4382-B5A2-FA760E876F0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ациональные счета здравоохранения. Анализ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2/3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040" y="2158920"/>
            <a:ext cx="796932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и точном заполнении всеми субъектами позволяет определить структуру затрат общества на здравоохранения, долю и объемы бюджетов каждого поставщика услуг в разрезе видов функц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труктурированные денежные потоки в динамике позволяют проследить изменение источников финансирования здравоохранения (нагрузки бюджетов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6F4A-0CEB-448E-BCD8-F86D62DDAC4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ациональные счета здравоохранения. Анализ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2/3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361960"/>
            <a:ext cx="826956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зучение структуры расходов и финансовых потоков позволит выразить в денежном эквиваленте межсекторальное взаимодействие общественных институтов и солидарную ответственность социальных сегментов за общественное и индивидуальное здоровье челове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9A00-15F8-4507-9C66-5E407957D7BD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ациональные счета здравоохранения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2/2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Сбор полной и достоверной информации дает возможность использовать НСЗ как индикатор важнейших принципов государственной политики в области здравоохранения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солидарной ответственности государства, работодателей и граждан за сохранение и укрепление индивидуального и общественного здоровья;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межсекторального взаимодействия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905E-D001-4A71-B057-8F6FF9802E9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СЗ. Организация сбора информаци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9520" y="22860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Отчет о расходах организации здравоохранения» - форма годовой статистической отчетности №19, утвержденной приказом председателя Агентства РК по статистике от 23 января 2006 г. №1-г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ряду с бумажным носителем – программный комплекс «Национальный счета здравоохранения» (Разработчик: ТОО «Мединформ»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государственных органов, осуществляющих сбор информации - приказ И.о. Министра здравоохранения от 10 апреля 2006 г. №170 «О предоставлении ведомственной статистической отчетности»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77FA-8351-4E75-81D6-5178C694CB4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НСЗ. Диспутная ситуация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1/4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45840" y="220968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бираемые сведения имеют прямое отношение, или составляют коммерческую тайн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зражения и прямые отказы лиц негосударственной формы собственности, в предоставлении информации по форме №19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лучаи не предоставления частными субъектами информации имели место в некоторых областях Республики, (Круглый стол, 5 сентября 2006 г., г. Астана, «Общество «Диабет» (г. Тараз)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нование для отказа в предоставлении информации - приказ МЗ РК №170 не прошел регистрацию в органах юстиции и следовательно не подлежит применению в отношении частных субъектов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D1F6-0ED6-482F-BCF7-2865636A53A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НСЗ. Диспутная ситуация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2/4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503840" cy="40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ветственность за сбор информации по неутвержденным формам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АП РК, статья 384 – сбор статистической информации по неутвержденным форма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ACDF-346F-415B-8A90-5496708592D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НСЗ. Диспутная ситуация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3/4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17440"/>
            <a:ext cx="82692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дание и исполнение приказа №170 не регулируется Законом РК от 24.03.1998 г. «О нормативных правовых актах» - приказ не отвечает требованиям подпункта 1) статьи 1 Закона (отсутствие вводимой новой правовой нормы, рассчитанной на многократное применение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1920" indent="-5119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авоприменительное и правореализующее значени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1920" indent="-5119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ределен круг исполнител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1920" indent="-5119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становлен четкий срок исполне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1920" indent="-5119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сутствует прямое указание респондента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448D-21DA-423E-92D9-D19FD5C1983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НСЗ. Диспутная ситуация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4/4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озражения субъектов об отсутствии  государственной регистрации приказа №170 в органах юстиции в порядке предусмотренном Законом «О нормативных правовых актах» являются необоснованным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авовое основание, устанавливающие обязанность лиц предоставлять информацию по форме №19 – нормативные правовые акты в сфере статисти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5FE0-084F-438B-82D3-CD89946298A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СЗ. Правовое основание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1031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Закон РК от 07.05.1997 «О государственной статистике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Постановление Правительства РК от 02.11.2002 «Об утверждении Правил проведения общегосударственных статистических наблюдений и обеспечения государственных органов статистической и аналитической информацией»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Постановление Правительства РК от 31.01.2006 №58 «Об утверждении Плана статистических наблюдений на 2006 год»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Правила предоставления статистической отчетности, утвержденных приказом Председателя Агентства РК по статистике от 10.07.2002 №72 (зарегистрированы в МЮ РК 09.08.2002 №1947)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762C-CF5C-48FE-AE08-3C5D18969AD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ktobe</cp:lastModifiedBy>
  <dcterms:modified xsi:type="dcterms:W3CDTF">2006-10-19T21:54:33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