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7325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20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2760" y="-36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3200" y="4687920"/>
            <a:ext cx="538488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224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2760" y="937224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4C81A764-C5F7-41B4-AC70-0CAF0C8EFE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812760" y="937224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7E3E5852-DB01-4B15-B7A5-91DE804A1A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-360" y="937224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-36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812760" y="-36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96400" y="4687920"/>
            <a:ext cx="49374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812760" y="937224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CDEEE3B8-EB01-4709-A715-BD219E05D9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360" y="937224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-36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12760" y="-36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96400" y="4687920"/>
            <a:ext cx="49374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812760" y="937224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EF164F82-76E8-4828-A2C9-C23C8C0926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-360" y="937224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-36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12760" y="-36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96400" y="4687920"/>
            <a:ext cx="49374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C341-334A-41A5-BC0B-F2DC24857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620B-DA6F-4950-950D-5875BF45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B192-910F-4E8F-A714-2019E16B2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0FB0-3910-475F-A143-984C96CDA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83E8-B3B1-4FD6-B73A-5BD2896E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8D90-F19B-4E41-A376-2A3BD7D2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9309-D9ED-44D3-8E74-C13195D6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37C7-205C-4AFA-8FD7-4BE411B3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4D4A-EF79-47CD-B48B-791FA41F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6C99-8345-48D5-AC82-A05DEBCC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F7E5-DC08-47D5-B057-45E2B9B2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114D-B8A3-4A29-827D-F0384206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8EFB-8952-4AFD-BB67-B6FAAC902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26920" y="2349360"/>
            <a:ext cx="7920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реализации  политики в управлении территориальными системами здравоохра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.м.н. С.Г.Нукуш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404640"/>
            <a:ext cx="74170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инистерство здравоохран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спублики Казахста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6480" y="6093000"/>
            <a:ext cx="3817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тября 2006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3200" y="95400"/>
            <a:ext cx="909720" cy="89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0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Перспективы развития охраны здоровья матери и ребен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а и реализация с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1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января 200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да программы по снижению материнской и младенческой смертности в Республике Казахстан до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1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да и переход с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8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да на критерии живорожденности, рекомендованные ВО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вершение строительства Республиканского центра материнства и детства на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50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е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ду и, Республиканского детского реабилитационного центра в г.Астана на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0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ек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да все детские и родовспомогательные организации будут оснащены медицинским оборудованием в соответствии с утвержденными норматив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7470-14C3-42E7-B45B-482FB38874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0680" y="189000"/>
            <a:ext cx="8364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Arial"/>
              </a:rPr>
              <a:t>Заболеваемость и смертность от туберкулеза </a:t>
            </a:r>
            <a:br>
              <a:rPr sz="2600"/>
            </a:br>
            <a:r>
              <a:rPr b="1" lang="ru-RU" sz="2600" spc="-1" strike="noStrike">
                <a:solidFill>
                  <a:srgbClr val="a50021"/>
                </a:solidFill>
                <a:latin typeface="Arial"/>
              </a:rPr>
              <a:t>в Казахстане</a:t>
            </a: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, 1990-200</a:t>
            </a:r>
            <a:r>
              <a:rPr b="1" lang="ru-RU" sz="2600" spc="-1" strike="noStrike">
                <a:solidFill>
                  <a:srgbClr val="a50021"/>
                </a:solidFill>
                <a:latin typeface="Arial"/>
              </a:rPr>
              <a:t>5 год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39640" y="909720"/>
          <a:ext cx="79200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909720"/>
                    <a:ext cx="79200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4100400" y="1244520"/>
            <a:ext cx="1752840" cy="1676520"/>
          </a:xfrm>
          <a:prstGeom prst="ellipse">
            <a:avLst/>
          </a:prstGeom>
          <a:noFill/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11640" y="3084120"/>
            <a:ext cx="1512720" cy="1392840"/>
          </a:xfrm>
          <a:prstGeom prst="upArrow">
            <a:avLst>
              <a:gd name="adj1" fmla="val 43491"/>
              <a:gd name="adj2" fmla="val 37046"/>
            </a:avLst>
          </a:prstGeom>
          <a:solidFill>
            <a:srgbClr val="ff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D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5373720"/>
            <a:ext cx="84326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инамика эпидемиологической ситуации по туберкулезу по данным ВОЗ оценивается за период  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не менее 10 л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храняющаяся высокая заболеваемость является последствием неэффективного лечения  в середине 1990-х г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A6C1-8995-4F9B-A5A8-D31C0240D31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Повышение эффективности программ по борьбе с туберкулез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у проводится  оценка эффективности программ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OT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плюс и с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а будет внедрена она в более усовершенствованной форме, включая лечение мультирезистентных ф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нхронизация и усиление реализации республиканского и региональных программ по борьбе с туберкулез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формирование фтизиатрической службы республики и ее интеграция  с ПМСП и службами социальной защиты на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55DF-D57C-4746-A258-76D07CEA93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Регистрация  ВИЧ-инфекции среди населения </a:t>
            </a:r>
            <a:br>
              <a:rPr sz="2400"/>
            </a:b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Республики Казахстан с 1987 - 2004 гг.(в случая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0" y="476280"/>
          <a:ext cx="9144000" cy="568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76280"/>
                    <a:ext cx="914400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565C-400F-4225-8073-E90EFF12EA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Меры по противодействию ВИЧ/СПИ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ан  межотраслевая Программа по противодействию эпидемии СПИДа в Республике Казахстан на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6-20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жегодно увеличивается охват антиретровирусной терапией больных с ВИЧ/СПИ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билизованы ресурсы международных доноров, в том числе гранты Глобального фонда по борьбе со СПИДом, туберкулезом и малярией в сумме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2,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ллиона долларов США и Всемирного банка в сумме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7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ллионов долларов США, подписан Меморандум с Инициативой Фонда Клинт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C352-CBCD-46FF-BE34-FA9991B083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38240"/>
            <a:ext cx="8002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Совершенствование качества </a:t>
            </a:r>
            <a:br>
              <a:rPr sz="2600"/>
            </a:b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медицинской помощ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2090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2010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ду гг. будет создана система управления качеством медицинской помощи в соответствии с международными стандартами, состоящая из трех уровн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й уровень – внутрибольничный 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й уровень – независимая медицинская эксперт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-й уровень – обязательный государственный 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1 июля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года начато внедрение протоколов диагностики и лечения по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иболее часто встречающимся заболеваниям с целью улучшения контроля качества за предоставляемыми услуг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138C-6968-4ACE-8211-BE7E5BF251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Расходы стран на здравоохранение </a:t>
            </a:r>
            <a:br>
              <a:rPr sz="2600"/>
            </a:b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в % от ВВП (2004 г.)*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981000"/>
          <a:ext cx="9144000" cy="43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91440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250920" y="5589720"/>
            <a:ext cx="864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    Данные ОЭСР (Организации экономического сотрудничества и развития)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2005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о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C5B7-9F8A-44C4-87FD-35D6F6F6D2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11280" y="18900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Arial"/>
              </a:rPr>
              <a:t>Показатели бюджетного финансирования отрасли здравоохранения в 200</a:t>
            </a: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2</a:t>
            </a:r>
            <a:r>
              <a:rPr b="1" lang="ru-RU" sz="2600" spc="-1" strike="noStrike">
                <a:solidFill>
                  <a:srgbClr val="a50021"/>
                </a:solidFill>
                <a:latin typeface="Arial"/>
              </a:rPr>
              <a:t>-200</a:t>
            </a: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6</a:t>
            </a:r>
            <a:r>
              <a:rPr b="1" lang="ru-RU" sz="2600" spc="-1" strike="noStrike">
                <a:solidFill>
                  <a:srgbClr val="a50021"/>
                </a:solidFill>
                <a:latin typeface="Arial"/>
              </a:rPr>
              <a:t> года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68360" y="1268280"/>
          <a:ext cx="8362800" cy="3267000"/>
        </p:xfrm>
        <a:graphic>
          <a:graphicData uri="http://schemas.openxmlformats.org/drawingml/2006/table">
            <a:tbl>
              <a:tblPr/>
              <a:tblGrid>
                <a:gridCol w="3166920"/>
                <a:gridCol w="865440"/>
                <a:gridCol w="863280"/>
                <a:gridCol w="863640"/>
                <a:gridCol w="936720"/>
                <a:gridCol w="1666800"/>
              </a:tblGrid>
              <a:tr h="554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  <a:ea typeface="Arial"/>
                        </a:rPr>
                        <a:t>2002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  <a:ea typeface="Arial"/>
                        </a:rPr>
                        <a:t>2003 г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  <a:ea typeface="Arial"/>
                        </a:rPr>
                        <a:t>2004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  <a:ea typeface="Arial"/>
                        </a:rPr>
                        <a:t>2005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  <a:ea typeface="Arial"/>
                        </a:rPr>
                        <a:t>2006 г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  <a:ea typeface="Arial"/>
                        </a:rPr>
                        <a:t>(на 01.06.200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Cyr"/>
                          <a:ea typeface="Arial"/>
                        </a:rPr>
                        <a:t>Всего расходы на здравоохранение, млрд.тенг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Cyr"/>
                          <a:ea typeface="Arial"/>
                        </a:rPr>
                        <a:t>7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Cyr"/>
                          <a:ea typeface="Arial"/>
                        </a:rPr>
                        <a:t>9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Cyr"/>
                          <a:ea typeface="Arial"/>
                        </a:rPr>
                        <a:t>13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Cyr"/>
                          <a:ea typeface="Arial"/>
                        </a:rPr>
                        <a:t>19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расходы на здравоохранение, млрд. долл. С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,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,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,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,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,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ы здравоохранения на душу населения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год, в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Z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 9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 2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 9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2 5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 0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Всего расходы здравоохранения в % к ВВ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  <a:ea typeface="Arial"/>
                        </a:rPr>
                        <a:t>1,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  <a:ea typeface="Arial"/>
                        </a:rPr>
                        <a:t>2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  <a:ea typeface="Arial"/>
                        </a:rPr>
                        <a:t>2,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 Cyr"/>
                          <a:ea typeface="Arial"/>
                        </a:rPr>
                        <a:t>2,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,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468360" y="4653000"/>
            <a:ext cx="842472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612"/>
              </a:spcBef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едполагается ежегодное увеличение объема финансирования отрасли                                  с доведением его до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 %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к ВВП в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20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го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оля расходов на ПМСП в общих расходах на здравоохранение увеличились с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0,7%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200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году до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5,7%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году. В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20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году предполагается увеличение финансирования ПМС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до 4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0B82-39B2-4CBE-AF8E-7CD87E1B75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1844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Первичная медико-санитарная помощь (</a:t>
            </a:r>
            <a:r>
              <a:rPr b="1" lang="en-US" sz="2600" spc="-1" strike="noStrike" u="sng">
                <a:solidFill>
                  <a:srgbClr val="a50021"/>
                </a:solidFill>
                <a:uFillTx/>
                <a:latin typeface="Arial"/>
              </a:rPr>
              <a:t>ПМСП</a:t>
            </a: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) – главный приоритет развития и реформирования здравоохранения Казахста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136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работана новая модель организации ПМСП населению республики, основанная на принципах общей врачебной практ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усмотрены новые стандарты структуры, типовые штаты и штатных норматив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тверждены минимальные нормативы (стандарты) оснащения организаций ПМСП медицинским оборудова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делены в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году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,3 млрд.тенг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 доукомплектование и укомплектование медицинских организаций ПМСП медицинскими кадрами в соответствии со штатными норматив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шли переподготовку и повышение квалификации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06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рачей общей практики или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4,5%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 общего числа врачей ПМС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D72F-398B-4341-B9E5-2B32C717D7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Обеспечение гарантированного объема </a:t>
            </a:r>
            <a:br>
              <a:rPr sz="2600"/>
            </a:b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бесплатной медицинской помощи (</a:t>
            </a:r>
            <a:r>
              <a:rPr b="1" lang="en-US" sz="2600" spc="-1" strike="noStrike" u="sng">
                <a:solidFill>
                  <a:srgbClr val="a50021"/>
                </a:solidFill>
                <a:uFillTx/>
                <a:latin typeface="Arial"/>
              </a:rPr>
              <a:t>ГОБМП</a:t>
            </a: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у на обеспечение ГОБМП предусмотрен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40,0 млрд.тенг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н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8,1%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ольше, чем в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ходы н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жителя в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у запланированы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919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енге (н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41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енге больше, чем расходы в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лонение расходов н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жителя между регионами уменьшилось с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,2 раз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у д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,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а в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у. В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у максимальные расходы н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жителя составил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998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енге (Мангистауская область), минимальные –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72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енге (Алматинская область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3D58-89B0-4F40-9FD6-186E759E5F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50920" y="2204640"/>
            <a:ext cx="864216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ализация «прорывного проекта» по созданию медицинского инновационного кластера г.Астана для прямого трансфера менеджмента и новых технологий по международным стандарт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нижение заболеваемости туберкулезом, ВИЧ/СПИД, материнской и младенческой смертности, улучшение показателей продолжительности жизни как основных индикаторов конкурентоспособности стр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коренная реализация Государственной программы реформирования и развития здравоохранения Республики Казахстан на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5-201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дрение новых подходов к оплате труда медицинских работников в зависимости от конечного результата труда с учетом его качества, объема и сложности оказываемой медицинской помо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38120" y="146160"/>
            <a:ext cx="829152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Реализация Послания Президента Республики Казахстан народу Казахстана «Стратегия вхождения Казахстана в число 50-ти наиболее конкурентоспособных стран мира»</a:t>
            </a:r>
            <a:br>
              <a:rPr sz="2400"/>
            </a:b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как общенациональной иде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1737-48B0-43FA-AC94-E8384C691F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Arial"/>
              </a:rPr>
              <a:t>Улучшение материально-технической базы организаций здравоохранения в 200</a:t>
            </a: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6</a:t>
            </a:r>
            <a:r>
              <a:rPr b="1" lang="ru-RU" sz="2600" spc="-1" strike="noStrike">
                <a:solidFill>
                  <a:srgbClr val="a50021"/>
                </a:solidFill>
                <a:latin typeface="Arial"/>
              </a:rPr>
              <a:t> год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нащенность объектов ПМСП медицинским оборудованием и изделиями медицинского назначения увеличилась более, чем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 2,5 ра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обретено медицинского оборудования и оснащено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83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П и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14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ФАП, что составило соответственно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8,3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90,3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т общего количества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куплены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единицы санитарного автотранспорта для СВА (оснащение -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0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и служб скор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5B40-A5D0-4CDC-B2DF-24AB8833A37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Показатели заболеваемости населения Республики Казахстан социально значимыми болезнями </a:t>
            </a:r>
            <a:br>
              <a:rPr sz="2400"/>
            </a:b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в 2004-2005 гг.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(на 100 тыс. насел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1117440"/>
          <a:ext cx="9201240" cy="454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17440"/>
                    <a:ext cx="9201240" cy="45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6A38-185B-4440-941C-7FFA645AD3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Совершенствование профилактики, диагностики, лечения и реабилитации социально значимых заболеван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556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первые в республиканском бюджете предусмотрено проведение операций по коронарному стентированию (в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. –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70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ных, с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. предполагается увеличение количества операций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2 раз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ные с сахарным диабетом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00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еспечены высококачественными препаратами инсулина и средствами его доста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да планируется поэтапное обеспечение онкологических диспансеров необходимой аппаратурой для лучевой терапии и маммографами на общую сумму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,9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лрд.тенг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увеличение закупа химиопрепаратов для онкобольных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2 раза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0,7 млрд.тенг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. д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,4 млрд.тенг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да начато создание региональных центров медико-социальной реабилитации наркозависимых л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DC33-0DF7-4C4F-A438-2D9CF78B8F2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496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он  «Об охране здоровье граждан в РК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«О системе здравоохранения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олномоченный орган- Министерство здравоохранения Р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ивает  проведение государственной политики в области здравоохранения, медицинской науки, медицинского и фармацевтического образ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уществляет руководство деятельностью организаций медицинского и фармацевтического образ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225"/>
              </a:spcBef>
              <a:spcAft>
                <a:spcPts val="12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сударственное  регулирование здравоохра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6F14-7218-4253-8AE0-D4E450D2D24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сударственное  регулирование здравоохра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9120" y="1268280"/>
            <a:ext cx="8300880" cy="53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ует государственные программы в области здравоохранения, медицинской науки, медицинского и фармацевтического обра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ляет межотраслевое сотрудничество в интересах здоровья гражда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яет порядок оказания медицинской помощи и обеспечения лекарственными средствами гражда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атывает и утверждает нормативно-правовые акты и нормативные документы, стандарты в области здравоохранения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DFE6-9424-4577-9352-3F0656DEF73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етенция органов местного государственного управления в области здравоохра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лизируют  государственную политику в области здравоохранения в соответствующей территор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ивают реализацию гражданами права на ГОБМП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ют местные органы гос.управления здравоохранением и организуют контроль за кадровым обеспечением гос.организаций здравоохранения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DC86-2B3E-4B15-8278-32867DB0599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зграничение функ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ное разграничение функций и полномочий было закреплено в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 году принятием общего пакета изменений и дополнений в более чем 120 законодательных а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ответствии со ст.29 Закона РК « О местном государственном самоуправлении» назначение  и освобождение на должность руководителя департамента здравоохранения отнесено к исключительной компетенции Акима обла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420D-095C-4C44-9D53-DA4207E20EA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ализация ЗРК»О республиканском бюджете на 2006 год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стерство здравоохранения выступает Единым организатором гос.закупок здравоохранения при участии представителей департаментов здравоохранения и ГСЭ надзора областей, г.г. Астана и Алматы по программ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 Целевые текущие трансферты областным бюджетам, бюджетам г.Астаны, Алматы  на закуп лекарственных средств, вакцин и др.иммунобиологических препаратов»( обосновывалось необходимостью обеспечения стандартов качества и безопасности лекарственных средств, вакцин и др.иммунобиологических препаратов , приобретаемых для лечения больных с социально-значимыми заболеваниями и проведения вакцинации насе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6C5F-65B0-42A2-A792-12B3D4EDAD9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елевые текущие трансфер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евые текущие трансферты областным бюджетам, бюджетам г.Астаны, Алматы  на материально-техническое оснащение медицинских организаций здравоохранения на местном уровне» -в целях унификации закупа дорогостоящего мед.оборудования(для онкологической службы, кювезов для деских больниц и организаций родовспоможения, маммограф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5EF0-BDF5-405D-885D-ABED92550D6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елевые текущие  трансфер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республиканской бюджетной программ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2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«Целевые текущие  трансферты областным бюджетам, бюджетам городов Астаны и Алматы                                                                                           на закуп лекарственных средств, вакцин и других иммунобиологических препаратов» на 2007 г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уп противотуберкулезных препаратов (считаем возможным передать данный закуп на местный уровень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по подпрограмме 104 «Целевые текущие трансферты областным бюджетам, бюджетам городов Астаны и Алматы на закуп лекарственных средств, диализаторов, расходных материалов для больных с почечной недостаточностью и лекарственных средств для больных после трансплантации почки»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таем возможным передать закуп  на местный уровен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8199-175E-44F7-ADB3-1CC22113E40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1250"/>
              </a:spcBef>
              <a:spcAft>
                <a:spcPts val="1250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жидаемая продолжительность жизни (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96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ст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нская и младенческая смертность                               (детская смертность –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5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ст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ияние туберкулеза на бизнес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ст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ияние ВИЧ/СПИД на бизнес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ст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Основные индикаторы здоровья населения, определяющие конкурентоспособность стр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980B-B072-4D0F-90FC-0ECDDC2659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елевые текущие трансфер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подпрограмме 103 «Целевые текущие трансферты областным бюджетам, бюджетам городов Астаны и Алматы на закуп химиопрепаратов онкологическим больным»-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таем возможным передать закуп  на местный уровен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рограмм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3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Целевые  текущие трансферты областным бюджетам, бюджетам г. Астаны, г.Алматы на МТ оснащение  медицинских организаций на местном уровне- закуп в феврале – марте  2007 года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таем возможным передать закуп  на местный уровен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8CAD-E6CB-4567-B404-159BABACC53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Благодарю за внимание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D8C8-9EEC-49B5-A409-A3468681B63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Ожидаемая продолжительность жизни </a:t>
            </a:r>
            <a:br>
              <a:rPr sz="2400"/>
            </a:b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при рождении (2005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1484280"/>
          <a:ext cx="9144000" cy="46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84280"/>
                    <a:ext cx="9144000" cy="46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D42F-5453-4DD8-B48C-2485DFC5F9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Меры по улучшению показателей продолжительности жизн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75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вышение доступности и качества медицинской помощи населению путем внедрения новых технологий диагностики и леч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375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оздание единой системы реализации региональных программ по формированию здорового образа жиз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375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еализация мер по обеспечению чистой питьевой водой, снижение воздействия неблагоприятных экологических и производственных факторов на здоровье населения для снижения смертности населе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D800-3B3E-440B-BF13-E95A68E603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Показатели младенческой и материнской смертности в Республике Казахс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50920" y="981000"/>
          <a:ext cx="8638920" cy="530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81000"/>
                    <a:ext cx="8638920" cy="53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0CE8-82D9-4751-9EBD-9ACB86061E7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792972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Сравнительные показатели младенческой и материнской смертности в 2004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0" y="1066680"/>
          <a:ext cx="8388360" cy="474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8388360" cy="47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324000" y="5661000"/>
            <a:ext cx="806580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5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 внедрением критериев живорождения с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200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года, рекомендованных ВОЗ, прогнозируется увеличение показателя младенческой смерт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840800" y="1341360"/>
            <a:ext cx="1303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100 случаев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67200" y="1484280"/>
            <a:ext cx="1498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3901 случай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17DC-B16D-4182-B66D-6E4BE5E6278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137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Охрана здоровья матери и ребенка – приоритетная задача Госпрограмм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ечение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да проведены бесплатные профилактические медицинские осмотры женщин репродуктивного возраста от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лет (охва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98%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нщин данной категории ил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,7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лн.женщин, выявлено больных –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3,3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оздоровлено –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59%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нщ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да все женщины в возрасте о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4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лет пройдут бесплатные профилактические осмотры. Выделен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,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лрд. тен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беременные женщины в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6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ду на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00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еспечены железо- и йодосодержащими препаратами. В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ду выделен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92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лн.тен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94BA-0020-43B4-B735-4E01774BD8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137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Охрана здоровья матери и ребенка – </a:t>
            </a:r>
            <a:br>
              <a:rPr sz="2600"/>
            </a:b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приоритетная задача Госпрограмм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35164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дети в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у д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ти лет обеспечены бесплатными лекарственными средствами на амбулаторном уров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да  дети  и подростки, состоящие на диспансерном учете  обеспечиваются  бесплатными лекарственными средств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 приобретено медицинского оборудования для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5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одовспомогательных организаций 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4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женских консультаций. Выделен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,3 млрд.тен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у родовспомогательным организациям для оснащения кювезами, аппаратами искусственной вентиляции легких, УЗИ и другими выделен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,9 млрд.тенг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E422-5494-4F26-B17D-9B41AE91FE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8T10:34:01Z</dcterms:created>
  <dc:creator>Бермагамбетова</dc:creator>
  <dc:description/>
  <dc:language>en-US</dc:language>
  <cp:lastModifiedBy>Расул Дюсенов</cp:lastModifiedBy>
  <dcterms:modified xsi:type="dcterms:W3CDTF">2006-10-20T01:33:48Z</dcterms:modified>
  <cp:revision>356</cp:revision>
  <dc:subject/>
  <dc:title>Слайд 1</dc:title>
</cp:coreProperties>
</file>