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06B8-0723-4928-A8D5-0B2FE7DA1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6F4D-2E3D-463F-8CAE-E41E0271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46F8-AD16-42CD-B10C-FD4B401DB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C605-1BA7-4C0C-91E7-3DC5BCE1A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A0DC-8131-4945-AEA7-F82F89494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9608-61F0-468A-8A5D-FFEDFC28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D49F-4327-48F9-BBEB-E91DFCF6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D104-780F-41C8-9950-00B02CD9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A748-FEB7-41F3-BA55-48DA837B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3337-59DB-4F7B-BAB6-88ED3DE4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DCBD-B217-4E53-BA4B-2208EDC9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D920-69BE-4BC2-9EC3-12D99BB4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7F8A-D9CC-4610-B07C-E624F460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B156-70E7-41DF-99A2-7C1DF894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3C6F-AAF3-4121-B0E2-CBE1E60D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67AA-07A5-4E75-BC19-FCBDBC4D3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446A-B3B6-4D6C-A414-FCD2156B0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8C1A-4FAE-4B51-BD3E-5B00FE28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2C31-59D7-4077-96B3-CF96BFF6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40DC-0B97-4252-9B33-43EB884C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95C8-85C1-410B-B4FE-D0EEB905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8543-0FCF-4EBD-B2BF-FC52378E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3833-EF35-4F00-B3B9-CAC32882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5D7B-2BE7-42E2-A2AD-F658BF41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A7FB-36A3-4A07-87A4-025169770F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80B7-13BB-4AB7-B2CF-0A36CD424C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C</a:t>
            </a: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овершенствование основ политики и управления  в здравоохранении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. KULZHANOV M.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zakhstan School of Public Heal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maty, October 20-21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Третьей составляющей оценки качества управления является анализ показателя экономично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т.е. соотношения результата к затрат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Управленческие решения на уровне област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6% - решения по частным вопрос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,4% - значимые 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3% - принятые единолично руководите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% - развитию общестационарной и ПМС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обладание решении по вопросам специализированной помощ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истема подбора, обучения и расстановки кадров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тверждение критериев отб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бор резерва руководящих кад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правление на обучение (1-2 годичные курс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движение на руководящую долж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зна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нитор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дви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Times New Roman"/>
              </a:rPr>
              <a:t>Управления по результатам в здравоохранении,основные разделы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ирование ясных целей и подцелей для системы здравоохра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ирование системы сбалансированных показателей здоровья и развития системы здравоохра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ханизмы работы в новой системе управления  и взаимодействие  учреждений здравоохранения между собой и с вышестоящими уровнями управ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инансирование (одноканальная система финансирования, составление проекта бюджета  ориентированного на результат (показатели здоровья и др. индикаторы) (новая форма бюджетной заявк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имер формулирования целей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ять целей системы здравоохранения для  повышения показателей здоровья населения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ижение смертности населения от болезней системы кровообращ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ижение смертности населения от онкологических заболеваний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ижение смертности населения от травм и от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ижение заболеваемости населения болезнями органов дыхания, включая ТБ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ижение детской заболевае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Пример формулирования целей повышения эффективности системы здравоохранения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4920" y="1599840"/>
            <a:ext cx="8497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и внедрение новой системы планирования и  финансирования по методологии бюджетирования ориентированного на результа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системы стимулирования ЛПУ за эффективное использование финансовых ресур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ение системы учета таким образом, чтобы она позволяла оценить воздействие оказываемых услуг на здоровье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дрение стандартов качества оказываемых услуг в каждой ЛПУ обла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11640" y="333000"/>
            <a:ext cx="257796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продолжение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плановых значений уровня качества оказываемых услу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ие периодического мониторинга качества оказываемых усл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типовой системы мотивации персонала, ориентированной на достижение ц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единой закупочной политики лекарственного обеспе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Интернет-сайтов департаментов здравоохранения обла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торой составляющей оценки качества управления является анализ результативно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Результативность характеризуется соотношением поставленных целей и достигнутых результа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33"/>
                </a:solidFill>
                <a:latin typeface="Times New Roman"/>
              </a:rPr>
              <a:t>Пример показателей, характеризующих результативность здравоохранения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ертность от болезней системы кровообращения на 100 000 насел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ичная заболеваемость туберкулёзом на 100 000 взрослого и детского насел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ная выявляемость онкологических заболеваний в I-II стадия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омплектованность физическими лицами должностей врачей-терапевтов участковых, врачей-педиатров участковых, врачей общей практики их соотноше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ельный вес больных инфарктом миокарда, госпитализированных в первые 6 часов от начала заболе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Примеры целевых показателей реформирования управления системой здравоохранения для областного уровня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сформированной бюджетной заявки по новой методологии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ля медицинских работников, прошедших обучение по алгоритмам оказания услу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утвержденного Плана мероприятий по реализации Кадровой политики в сфере здравоохран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Единой базы данных по врачебному и сестринскому персоналу, работающему в учреждениях здравоохранения обла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базы данных оснащения учреждений здравоохран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одичность обновления Интернет-сайта департамента здравоохран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Пример целевых показателей здоровья для районного уровня управления здравоохранения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мертность от инфаркта миокарда и цереброваскулярных болезней в райо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ьничная летальность от инфаркта миокарда и цереброваскулярных болезн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мертность от травм и отравлений в райо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-летняя выживаемость больных онкологическими заболевания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стота обострений хронических заболеваний у детей, состоящих на диспансерном учете в данном учреждении здравоохранения, наличие группы ЧД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09:25:21Z</dcterms:created>
  <dc:creator>Kulzhanov</dc:creator>
  <dc:description/>
  <dc:language>en-US</dc:language>
  <cp:lastModifiedBy>sauko</cp:lastModifiedBy>
  <dcterms:modified xsi:type="dcterms:W3CDTF">2006-10-19T15:08:37Z</dcterms:modified>
  <cp:revision>4</cp:revision>
  <dc:subject/>
  <dc:title>Cовершенствование основ политики и управления  в здравоохранении </dc:title>
</cp:coreProperties>
</file>