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15F-ED87-4769-99BB-E9D47A67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DAE-766A-4092-B9EF-1DB8AA94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50F-D78A-4443-AA6E-D175043A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2D3-0D32-4750-B616-9F594674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D1E-464A-4F2B-9DF4-05306B64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897-DFD0-48C0-A090-AFD0E111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14D-068F-490E-8542-009548C0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7DA-19B7-4095-9B3D-B71A160A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545-23C0-4FFE-B954-237D812D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E25-121E-4D23-8BA1-8C87F314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AD1-8A7D-4E87-A246-C7B57F8B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EF5-064C-4788-8EF7-E9F691BB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E321-FC9C-48F2-84A3-2F934FBBB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jpe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jpe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jpe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025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uncil on Health Research for Developmen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COHR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472428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el IJsselmu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maty,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But since 2000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84720" y="299556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32720" y="1844640"/>
            <a:ext cx="647640" cy="64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64000" y="3211560"/>
            <a:ext cx="128772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815240" y="4149720"/>
            <a:ext cx="1004760" cy="608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16360" y="981000"/>
            <a:ext cx="154296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164360" y="2781360"/>
            <a:ext cx="142884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124000" y="2852640"/>
            <a:ext cx="1136880" cy="73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284720" y="4508640"/>
            <a:ext cx="857160" cy="82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6012000" y="981000"/>
            <a:ext cx="3132000" cy="73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08000" y="6093000"/>
            <a:ext cx="4497480" cy="68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2484360" y="2205000"/>
            <a:ext cx="170496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50920" y="1590840"/>
            <a:ext cx="3456000" cy="614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826920" y="2421000"/>
            <a:ext cx="1244880" cy="723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7524720" y="2001960"/>
            <a:ext cx="1368360" cy="61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5364000" y="404640"/>
            <a:ext cx="2521080" cy="484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132000" y="5445000"/>
            <a:ext cx="2087640" cy="524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668160" y="5445000"/>
            <a:ext cx="1743120" cy="58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2700360" y="4292640"/>
            <a:ext cx="144000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9"/>
          <a:stretch/>
        </p:blipFill>
        <p:spPr>
          <a:xfrm>
            <a:off x="4500720" y="2244600"/>
            <a:ext cx="942840" cy="752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0"/>
          <a:stretch/>
        </p:blipFill>
        <p:spPr>
          <a:xfrm>
            <a:off x="324000" y="4221000"/>
            <a:ext cx="1834920" cy="72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1"/>
          <a:stretch/>
        </p:blipFill>
        <p:spPr>
          <a:xfrm>
            <a:off x="5219640" y="4941720"/>
            <a:ext cx="876240" cy="8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2"/>
          <a:stretch/>
        </p:blipFill>
        <p:spPr>
          <a:xfrm>
            <a:off x="4427640" y="6099120"/>
            <a:ext cx="2160360" cy="642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3"/>
          <a:stretch/>
        </p:blipFill>
        <p:spPr>
          <a:xfrm>
            <a:off x="7164360" y="5013360"/>
            <a:ext cx="1440000" cy="6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4"/>
          <a:stretch/>
        </p:blipFill>
        <p:spPr>
          <a:xfrm>
            <a:off x="1258920" y="3357720"/>
            <a:ext cx="72396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92160" y="2565360"/>
            <a:ext cx="66348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4427640" y="3860640"/>
            <a:ext cx="233352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7"/>
          <a:stretch/>
        </p:blipFill>
        <p:spPr>
          <a:xfrm>
            <a:off x="7020000" y="3357720"/>
            <a:ext cx="1168200" cy="66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5867280" y="4365720"/>
            <a:ext cx="1857600" cy="62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2124000" y="4797360"/>
            <a:ext cx="1371600" cy="657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0"/>
          <a:stretch/>
        </p:blipFill>
        <p:spPr>
          <a:xfrm>
            <a:off x="3708360" y="1484280"/>
            <a:ext cx="1274760" cy="73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3419640" y="292428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5651640" y="2205000"/>
            <a:ext cx="1226880" cy="97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3"/>
          <a:stretch/>
        </p:blipFill>
        <p:spPr>
          <a:xfrm>
            <a:off x="900000" y="1430280"/>
            <a:ext cx="2791080" cy="34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1979640" y="3789360"/>
            <a:ext cx="2286000" cy="447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6084720" y="4797360"/>
            <a:ext cx="1248120" cy="104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6"/>
          <a:stretch/>
        </p:blipFill>
        <p:spPr>
          <a:xfrm>
            <a:off x="4932360" y="4292640"/>
            <a:ext cx="1008000" cy="6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5651640" y="5913360"/>
            <a:ext cx="3429000" cy="32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250920" y="4869000"/>
            <a:ext cx="1685880" cy="54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9"/>
          <a:stretch/>
        </p:blipFill>
        <p:spPr>
          <a:xfrm>
            <a:off x="179280" y="966960"/>
            <a:ext cx="1297080" cy="420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4781520" y="981000"/>
            <a:ext cx="94284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5364000" y="1484280"/>
            <a:ext cx="1073160" cy="814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2"/>
          <a:stretch/>
        </p:blipFill>
        <p:spPr>
          <a:xfrm>
            <a:off x="3564000" y="4797360"/>
            <a:ext cx="936720" cy="69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5724360" y="4756320"/>
            <a:ext cx="3024360" cy="43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1763640" y="907920"/>
            <a:ext cx="1038240" cy="409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5"/>
          <a:stretch/>
        </p:blipFill>
        <p:spPr>
          <a:xfrm>
            <a:off x="7308720" y="6237360"/>
            <a:ext cx="1812960" cy="569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6"/>
          <a:stretch/>
        </p:blipFill>
        <p:spPr>
          <a:xfrm>
            <a:off x="395280" y="2205000"/>
            <a:ext cx="262728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ealth Research System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some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ventions becoming more ‘system intensive’ (e.g. GF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research, seemingly less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to deal with this multitude of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ignment with national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is Declaration on Aid Effectiveness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ined staff leaving at end of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al’ brain drain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e.g. Malawi trial – 47 n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many other issues leading to sustainability, and research for conditions for which there is no funding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thical review of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8640" y="6381720"/>
            <a:ext cx="39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Arial"/>
              </a:rPr>
              <a:t>Council on Health Research fo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308640"/>
            <a:ext cx="7632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5030640" cy="611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nd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“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10/90 Ga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EN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Partnershi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rst Dec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EN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prior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HRS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health research syste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Research impacting on equity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Research &amp;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Innov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i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southern owne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with key norther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  <a:ea typeface="Arial"/>
              </a:rPr>
              <a:t>(Only 2 % of 100 GH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decentral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link to Global Forum for Health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bilateral, foundation,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core’ &amp; desig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e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with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cademic &amp; research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man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frica, central &amp; south America, South East Asia, Central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health research priorities, policies and a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negotiation ability to deal with research spo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Can obtain research expertise and partnerships needed to address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thei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ability for ethics review &amp;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Research (also) adequately addresses health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Addresses Human Resources for Health Research (HR-H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Invests at least 2% of health program budget in research (all 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Have a financing strategy (incl donor eng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hat do we d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32000" y="115920"/>
          <a:ext cx="4476600" cy="6138720"/>
        </p:xfrm>
        <a:graphic>
          <a:graphicData uri="http://schemas.openxmlformats.org/drawingml/2006/table">
            <a:tbl>
              <a:tblPr/>
              <a:tblGrid>
                <a:gridCol w="1287360"/>
                <a:gridCol w="318924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ority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tion Analysis / Sc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pping (descrip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filing (capaci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essment (performan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ecific evaluation (single interven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nitoring and Evalu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ther (RIA, Impact Assessment, …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Strengthe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CS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dividual, institutional, system,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Policy Formulation &amp;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hics Review Capacity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two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/ regional health research f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Communica-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untry-based </a:t>
                      </a: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Res to Pol M; Pol to Res; Res to Comm; Comm to Res; Pol to Comm; Comm to Pol Mak; and all to dono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&amp;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other ‘users’ / constitu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H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advocacy (‘making the case’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voc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obal ‘research for health’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O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ource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wn pub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ink T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Learning on issues in ‘research for health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5:14:05Z</dcterms:created>
  <dc:creator>Carel IJsselmuiden</dc:creator>
  <dc:description/>
  <dc:language>en-US</dc:language>
  <cp:lastModifiedBy>Carel IJsselmuiden</cp:lastModifiedBy>
  <dcterms:modified xsi:type="dcterms:W3CDTF">2006-10-20T05:02:10Z</dcterms:modified>
  <cp:revision>94</cp:revision>
  <dc:subject/>
  <dc:title>Slide 1</dc:title>
</cp:coreProperties>
</file>