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B163-4B5B-468F-94C7-DE57279C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8B26-4D83-44DB-9292-04ADDB5E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286-F4B3-43D0-9EC8-2D8139BF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691-77BA-47FB-96E1-BB54E50B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7F71-606B-461C-8EC5-1FB5E35F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F50C-A66E-47A7-B70F-1BA6F327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E0EB-BD85-4602-96F0-5321ECAF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1DB9-08E5-4284-A8EA-EC32BB74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7090-7944-44F4-AB61-54BE3B63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EC1E-55A7-48A9-A236-197438C8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DD19-6109-4A60-86F8-86AE8F52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38C-4A6D-434F-819E-45808CEF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BE29-8C0B-436E-B7CC-24F5AEFB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EA1A-328D-4F8F-91BE-F287EB1A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B6F6-16C5-4710-8DA9-A2A03D52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9375-99DE-4D26-9882-C7B1C205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72A3-9E5D-400E-B5B3-2823F9AC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3F5-B547-40D9-B5CD-74EE6816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D97-A870-4852-96BA-64FF73C3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23FD-9745-4291-9752-8F48E601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35F9-3AED-4BEE-91B9-58EACA22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99A6-36DE-4CFE-9702-ED8D6ED8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EA8-CDD4-4246-B516-0FDB3045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AE6-6D81-419E-9F6E-E1828A5C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17F4-AEFB-40F8-992F-1A5613518F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5633-CD05-40BD-88AA-859001B0E9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овременные подходы к научно-практическому сопровождению реформирования системы здравоохранения РК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Биртанов 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Институт развития здравоохранения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МЗ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Главная цел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Определение главной цели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разработка и реализация новых программ реформирования здравоохранения -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задача для всего обществ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с реальным участием всех государственных и общественных институтов, а в первую очередь –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 реальным участием населения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с учетом его реальных и перспективных потребностей в охране и укреплении здоровья в условиях глобальной интеграции и конкурен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Обеспечение эффективности реформ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аучно-методологическое обеспеч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рганизационное обеспечение (финансовое, нормативное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- проблем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есовершенство планирования и управления НИ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малые инвести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изкая инновационная результативност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лабый потенциал (кадровый, технический, методологический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лабая международная интеграция, отсутствие конкурентоспособности на внешнем и внутреннем «рынке» НИ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- состоя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2400" spc="-1" strike="noStrike">
                <a:solidFill>
                  <a:srgbClr val="000000"/>
                </a:solidFill>
                <a:latin typeface="Verdana"/>
              </a:rPr>
              <a:t>Слабый уровень и качество исследований системы здравоохранения, их невостребованн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рая недостаточность современных, научно-обоснованных, инновационных технологий</a:t>
            </a:r>
            <a:r>
              <a:rPr b="0" lang="ru-MD" sz="2400" spc="-1" strike="noStrike">
                <a:solidFill>
                  <a:srgbClr val="000000"/>
                </a:solidFill>
                <a:latin typeface="Verdana"/>
              </a:rPr>
              <a:t> в области организации, управления и экономики здравоо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2400" spc="-1" strike="noStrike">
                <a:solidFill>
                  <a:srgbClr val="000000"/>
                </a:solidFill>
                <a:latin typeface="Verdana"/>
              </a:rPr>
              <a:t>Неспособность науки полноценно решать актуальные проблемы реформирования и развития здравоо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– новые подход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Реформирование системы управления научно-технической сферой стран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«В принципиальном плане эту новацию можно трактовать как переход от управления научными учреждениями, как это было раньше, к управлению научными исследованиями» (Из выступления Президента на юбилейном заседании НАН РК 13.10.2006.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еформа управления наукой в РК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оздан ВНТК под руководством Премьер-Министра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оздан Комитет по науке МОН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ет создан Фонд наук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ут созданы 5 национальных лабораторий открытого типа по приоритетным направлениям, 15 университетских лаборатор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дготовка перспективных ученых за рубежом и в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ет принята Государственная программа развития науки на 2007-2012 гг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– новые подход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величение инвестиций в НИР (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search &amp; development)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в том числе из негосударственных источник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зработка инновационных технологий и обеспечение их внедр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силение кадрового, технологического (ИТ) и методологического потенциала (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pacity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недрение международных стандартов, принципов корпоративного управления в деятельность научных организац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учение и адаптация лучшего мирового опыта и технологий на основе прямого и эффективного международного сотрудничеств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Обеспечение реформ и развития здравоохранения – основные компоненты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ратегическое планирование и управ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Эффективное и рациональное финанс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ередовая научно-методологическая ба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ачественная нормативная ба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временная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нституциональная баз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развития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нституциональная поддержка устойчивого развития экономи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онды и институты развития для реализации проектов в несырьевом сектора экономики (АО «Казына») - 136 проектов на сумму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,6 млрд., в 2007-2009 гг. инвестиционная потребность –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0 млрд. из них с участием институтов развития -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,5 млрд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инансирование науки в 2007 г. составит науки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35 млн., из них – 10% из Фонда нау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нституты развития здравоохран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чевидно, в РК необходимы современные национальные институты развития сферы здравоохранения в рамках развития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оциальных секторов экономик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Цель – научное, организационно-методологическое, образовательное и финансовое обеспечение реформирования и устойчивого развития системы здравоохранения в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Реформы в здравоохранен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аучно-методическое и организационное сопровождение рефор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нституты развития здравоохранения – новые задач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учно-методологическая поддержка негосударственного здравоохран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Разработка и поддержка инвестиционных проектов в сфере здравоохран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ивлечение негосударственных, в том числе, иностранных инвестиций в отрасл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беспечение внедрения современных стандартов и технологий управления и финансирования в здравоохранен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оведение маркетинговых, социологических исследован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беспечение конкурентоспособности отечественного здравоохранения в регионе и мир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Таким образом, сегодня нам необходимы новые стратегии в реформировании сферы здравоохранения, основанные на четком видении перспективных целей, на интеграции со всеми секторами экономики, и на основе применения современных научных и институциональных технологий развит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пасибо за вним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еформирование здравоохран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еобходимость рефор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пыт реформ прошлых ле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риоритеты дальнейших рефор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Необходимость рефор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фундаментом динамично процветающего общества может быть только современная, конкурентоспособная и открытая рыночная экономика…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Послание Президента РК Н.А.Назарбаева народу Казахстана «Стратегия вхождения Казахстана в число 50-ти наиболее конкурентоспособных стран мира. Астана, 1 марта 2006 г.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Готово ли отечественное здравоохранение стать элементом такого общества и такой экономики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пыт прошлых ле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Логика прошлых реформ: сложившаяся ситуация и имеющиеся предпосылки обуславливали цели развития – планирование от достигнутог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За всю историю развития отечественного здравоохранения во время реализации разных программ реформирования системы здравоохранения не было проведено ни одной серьезной реструктуризации отрасли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…» (Аканов А.А., Здравоохранение Казахстана: на пороге структурных преобразований (взгляд в будущее, 2006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иоритеты будущих рефор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Реформа здравоохранения должна быть интегрирована с системной модернизацией экономики всей стран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еобходимо определить место и роль системы здравоохранения в процессе построения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овременного постиндустриального общества с высоким уровнем благосостояния и социального обеспечения, с эффективной многоотраслевой национальной экономико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иоритетные задачи программы модернизации экономи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еодоление бедности и создание среднего класс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здание необходимых условий для повышения качества человеческого капитал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здание условий для диверсификации экономи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силение роли государства в формировании конкурентоспособной экономи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билизация внутренних накоплений для инвестирования экономических преобразовани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тие производственной и социальной инфраструктур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(К.Берентаев, КАПИТАЛ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Z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2006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азработка долгосрочной стратеги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Формулировка главной цели развития отрасли в рамках социально-экономического развития на долгосрочную перспектив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Конкретизация целей с выделением этапов их реализа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пределение необходимых условий и предпосылок для каждого этап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т будущего состояния к текущему – увязка между задачами различных этапов, их предпосылками и условиям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Главная цель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окончательно сформировать новую модель здравоохранения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Здравоохранение как основной и «цементирующий» элемент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социальной политики государств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для построения конкурентоспособного общества на основе развития эффективной национальной экономи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Здравоохранение как часть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национальной экономической доктрины государств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в условиях глобальной рыночной экономи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7:14:52Z</dcterms:created>
  <dc:creator>Serg</dc:creator>
  <dc:description/>
  <dc:language>en-US</dc:language>
  <cp:lastModifiedBy>Serg</cp:lastModifiedBy>
  <dcterms:modified xsi:type="dcterms:W3CDTF">2006-10-20T01:13:03Z</dcterms:modified>
  <cp:revision>10</cp:revision>
  <dc:subject/>
  <dc:title>Современные подходы к научно-практическому сопровождению реформирования системы здравоохранения РК</dc:title>
</cp:coreProperties>
</file>