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9CC1-4602-4672-AB5F-8BA17716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C5B-E37E-4E5F-B3A1-769BCBDF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409-728E-4CE6-9F38-BD8E2D89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200-3A3D-4E47-9876-F6303028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AD02-1578-4818-A396-000B86C0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3383-F8C7-4243-9570-6470D6BB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2195-F228-4653-8070-85E00C93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B991-B443-41F0-9FD3-469B4307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1D78-F708-4B5F-BB6F-B173F20D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158E-3B22-46D7-8641-5D4BF231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DD9A-D290-4D51-BFE3-CCC42F33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6BD0-3F14-4F80-BF90-7AB9FD75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0C73-CB68-4214-983F-325A5A5E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BEFD-88DC-4BE0-BA5D-01DDB1B9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7CA9-6480-456F-A54C-448567E3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554B-DD1F-447A-BA2B-4819CB3B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4FCC-5216-404F-A10C-2D4BBCFB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09CB-E75C-439F-9781-3B699D2D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B06-8D60-486F-82B9-602BE916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779-5280-45BA-8EC3-973475BC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601-DEB3-4D50-9012-06953CEE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8C6-C8C9-4CC8-9DE3-D6C11A60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D331-04D8-4EA1-A202-75811F1D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114-C26A-4088-B8FA-F8B26C2B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C5BB-FA67-41C3-B544-05F332B25A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B647-47D7-4193-942E-6EF8CF2A19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640" y="466200"/>
            <a:ext cx="7064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Взгляд в будущее. </a:t>
            </a:r>
            <a:br>
              <a:rPr sz="4800"/>
            </a:br>
            <a:r>
              <a:rPr b="0" i="1" lang="ru-RU" sz="3200" spc="-1" strike="noStrike">
                <a:solidFill>
                  <a:srgbClr val="330066"/>
                </a:solidFill>
                <a:latin typeface="Monotype Corsiva"/>
              </a:rPr>
              <a:t>Здравоохранение Казахстана на пороге структурных преобразований</a:t>
            </a: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новные элементы Госпрограмм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ренное преобразование ПМС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форма больничного де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ие трехуровневой системы контроля качества медицинских усл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недрение международных стандартов в лекарственном обеспечен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форма медицинского образования и нау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диная информационная сист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специализированных служ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ловеческие ресурс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ершенствование управления отрасл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ализация Госпрограмм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каждому направлению разработана концепция на 2006-2010 г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чата реализация программ реформирования ПМСП, медицинского образования, развития человеческих ресурсов, управления и финанс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ближайшее время должны развиваться остальные разделы программы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в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проведено ни одной серьезной реструктуризации отрас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волне больших финансовых вливаний отмечается тенденция увеличения  интенсивных показателей, на фоне низкого качества медицинских усл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бходимость структурных преобразовани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создание новых отношений, ориентир на конечные результаты деятельности, качество медицинских услуг, ресурсное обеспечение кадрами новой формации, модернизация, внедрение международных стандартов образования, медицинской науки и практи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330066"/>
                </a:solidFill>
                <a:latin typeface="Arial"/>
              </a:rPr>
              <a:t>Вызовы времени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ирование философии новой моде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недрение парадигм рыночн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ная интернационализация конкурентоспособного сектора: переход на международные стандарты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НАСТОЯЩАЯ РЕФОРМА ВПЕРЕД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ЧС В ЮК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ссовое заражение  детей от 2-х месяцев до 2-х лет 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чему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ные наруш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ации медицинской помощ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дицинских технолог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блемы в управлении системой здравоохра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чины кризис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719360"/>
            <a:ext cx="878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эффективная деятельно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бы кров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нитарно-эпидемиологического надз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бы внешнего контроля качества медицинских усл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бы внутреннего контроля каче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бы противодействия ВИЧ\СПИ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уществующая система здравоохранени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отвечает за последст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заинтересована в конечном результат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мотивирована во внедрении последних современных технологий и достижений медицинской нау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хнологически и материально отстал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конкурентоспособ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опросы, которые волнуют на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 будет с существующей системой организации здравоохранени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ой будет новая модель? Как будет развиваться здравоохранение в ближайшие год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вернуть доверие населения и уверенность медицинским работникам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ие проблемы отрасли сегодня наиболее актуальн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усилить госпрограмму реформирования и развития отрасл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крытые вопросы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ужен ли переход на страховую медицин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создать систему здравоохранения, предполагающую ответственность пациента: сооплата, доплата…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увеличить зарплату медицинским работникам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создать стимулы для повышения качества услуг и конкуренци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рефор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92 г.- необходимость создания новой системы здравоохранения: советская мод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96-1998 гг. – разработка  и внедрение бюджетно- страховой системы здравоохра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1999 г. - бюджетная модель: постсоветская сист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ки рефор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 одна реформа отрасли не была доведена до логического конца, не осмыслена, не проштудирована с извлечением глубоких и системных вывод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была проведена действенная структурная реформа отрасли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тапы реформ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е предыдущие усилия – первый этап рефор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ь второго этапа – формирование новой модели здравоохран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р: Государственная программа реформирования и развития здравоохранения на 2005-2010г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6:41:17Z</dcterms:created>
  <dc:creator>test</dc:creator>
  <dc:description/>
  <dc:language>en-US</dc:language>
  <cp:lastModifiedBy>user</cp:lastModifiedBy>
  <dcterms:modified xsi:type="dcterms:W3CDTF">2006-10-19T11:26:07Z</dcterms:modified>
  <cp:revision>15</cp:revision>
  <dc:subject/>
  <dc:title>Слайд 1</dc:title>
</cp:coreProperties>
</file>